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3.png" ContentType="image/png"/>
  <Override PartName="/ppt/media/image9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.png" ContentType="image/png"/>
  <Override PartName="/ppt/media/image14.wmf" ContentType="image/x-wmf"/>
  <Override PartName="/ppt/media/image6.png" ContentType="image/png"/>
  <Override PartName="/ppt/media/image10.wmf" ContentType="image/x-wmf"/>
  <Override PartName="/ppt/media/image2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13.wmf" ContentType="image/x-wmf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7E84E-5657-4D3B-819C-F8105C960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F36E2-2D19-4736-BCE0-B74FF382A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D15DF-6873-47A9-A75D-4041E71A1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F6FE5-4884-4285-9B0B-EFC5A570F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333F9-D830-493A-A30D-E0755C91E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589F0-5D17-4462-B698-270613048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9A8A3-DDAB-4051-8626-EEDF40843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5ED3D-D665-4FF6-8254-E16F48AF9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14CAA-5A32-4C7C-ADF1-E0DB1897F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F3B3F-1BE1-4A78-80BF-55052B345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32C87-E7B4-4515-B93F-03ED03608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F680A-E9A3-4551-8009-49E642DCD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A32C5-DD52-4691-9D50-B3AEDD65CC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image" Target="../media/image11.wmf"/><Relationship Id="rId6" Type="http://schemas.openxmlformats.org/officeDocument/2006/relationships/image" Target="../media/image12.wmf"/><Relationship Id="rId7" Type="http://schemas.openxmlformats.org/officeDocument/2006/relationships/image" Target="../media/image13.wmf"/><Relationship Id="rId8" Type="http://schemas.openxmlformats.org/officeDocument/2006/relationships/image" Target="../media/image14.wmf"/><Relationship Id="rId9" Type="http://schemas.openxmlformats.org/officeDocument/2006/relationships/image" Target="../media/image15.wmf"/><Relationship Id="rId10" Type="http://schemas.openxmlformats.org/officeDocument/2006/relationships/image" Target="../media/image16.wmf"/><Relationship Id="rId1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11360" y="205920"/>
            <a:ext cx="7772400" cy="75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Infections gastro-intestinales</a:t>
            </a:r>
            <a:endParaRPr b="0" lang="en-US" sz="28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03480" y="1096920"/>
            <a:ext cx="4758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1. Gastrite à </a:t>
            </a:r>
            <a:r>
              <a:rPr b="1" i="1" lang="en-US" sz="2400" spc="-1" strike="noStrike">
                <a:solidFill>
                  <a:srgbClr val="ff3300"/>
                </a:solidFill>
                <a:latin typeface="Arial"/>
              </a:rPr>
              <a:t>Helicobacter pylo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701720"/>
            <a:ext cx="685800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physiopatholog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941160" y="6121440"/>
            <a:ext cx="1119600" cy="3682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ULCE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093560" y="1854360"/>
            <a:ext cx="1550880" cy="2590560"/>
            <a:chOff x="4093560" y="1854360"/>
            <a:chExt cx="1550880" cy="2590560"/>
          </a:xfrm>
        </p:grpSpPr>
        <p:sp>
          <p:nvSpPr>
            <p:cNvPr id="48" name=""/>
            <p:cNvSpPr/>
            <p:nvPr/>
          </p:nvSpPr>
          <p:spPr>
            <a:xfrm>
              <a:off x="4093560" y="1854360"/>
              <a:ext cx="1550880" cy="642600"/>
            </a:xfrm>
            <a:prstGeom prst="rect">
              <a:avLst/>
            </a:prstGeom>
            <a:noFill/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33cc"/>
                  </a:solidFill>
                  <a:latin typeface="Arial"/>
                </a:rPr>
                <a:t>Helicobact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33cc"/>
                  </a:solidFill>
                  <a:latin typeface="Arial"/>
                </a:rPr>
                <a:t>pylor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00600" y="2540160"/>
              <a:ext cx="0" cy="1904760"/>
            </a:xfrm>
            <a:prstGeom prst="line">
              <a:avLst/>
            </a:prstGeom>
            <a:ln w="93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4046760" y="4521240"/>
            <a:ext cx="1485360" cy="1523880"/>
            <a:chOff x="4046760" y="4521240"/>
            <a:chExt cx="1485360" cy="1523880"/>
          </a:xfrm>
        </p:grpSpPr>
        <p:sp>
          <p:nvSpPr>
            <p:cNvPr id="51" name=""/>
            <p:cNvSpPr/>
            <p:nvPr/>
          </p:nvSpPr>
          <p:spPr>
            <a:xfrm>
              <a:off x="4046760" y="4521240"/>
              <a:ext cx="1485360" cy="916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éfense 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a muqueu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ltéré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800600" y="543564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451320" y="6121440"/>
            <a:ext cx="3444120" cy="368280"/>
            <a:chOff x="3451320" y="6121440"/>
            <a:chExt cx="3444120" cy="368280"/>
          </a:xfrm>
        </p:grpSpPr>
        <p:sp>
          <p:nvSpPr>
            <p:cNvPr id="54" name=""/>
            <p:cNvSpPr/>
            <p:nvPr/>
          </p:nvSpPr>
          <p:spPr>
            <a:xfrm>
              <a:off x="3451320" y="6121440"/>
              <a:ext cx="270144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uqueuse endommagé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209640" y="63244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704520" y="2997360"/>
            <a:ext cx="4096080" cy="3017520"/>
            <a:chOff x="704520" y="2997360"/>
            <a:chExt cx="4096080" cy="3017520"/>
          </a:xfrm>
        </p:grpSpPr>
        <p:sp>
          <p:nvSpPr>
            <p:cNvPr id="57" name=""/>
            <p:cNvSpPr/>
            <p:nvPr/>
          </p:nvSpPr>
          <p:spPr>
            <a:xfrm>
              <a:off x="770040" y="2997360"/>
              <a:ext cx="1713960" cy="855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ypersécré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ci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(Zollinger-Elison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704520" y="5372280"/>
              <a:ext cx="2334240" cy="642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écré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’acide et de pepsin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676520" y="3949560"/>
              <a:ext cx="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124080" y="5740560"/>
              <a:ext cx="1676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3183120" y="2997360"/>
            <a:ext cx="3514680" cy="407880"/>
            <a:chOff x="3183120" y="2997360"/>
            <a:chExt cx="3514680" cy="407880"/>
          </a:xfrm>
        </p:grpSpPr>
        <p:sp>
          <p:nvSpPr>
            <p:cNvPr id="62" name=""/>
            <p:cNvSpPr/>
            <p:nvPr/>
          </p:nvSpPr>
          <p:spPr>
            <a:xfrm>
              <a:off x="3183120" y="2997360"/>
              <a:ext cx="726480" cy="368280"/>
            </a:xfrm>
            <a:prstGeom prst="rect">
              <a:avLst/>
            </a:prstGeom>
            <a:noFill/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cc"/>
                  </a:solidFill>
                  <a:latin typeface="Arial"/>
                </a:rPr>
                <a:t>AI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846400" y="3036960"/>
              <a:ext cx="851400" cy="368280"/>
            </a:xfrm>
            <a:prstGeom prst="rect">
              <a:avLst/>
            </a:prstGeom>
            <a:noFill/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cc"/>
                  </a:solidFill>
                  <a:latin typeface="Arial"/>
                </a:rPr>
                <a:t>stres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916440" y="3252960"/>
              <a:ext cx="1904760" cy="0"/>
            </a:xfrm>
            <a:prstGeom prst="line">
              <a:avLst/>
            </a:prstGeom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11360" y="205920"/>
            <a:ext cx="7772400" cy="754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Infections gastro-intestinales</a:t>
            </a:r>
            <a:endParaRPr b="0" lang="en-US" sz="28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91440" y="1023840"/>
            <a:ext cx="6892560" cy="164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2. Gastro-entéri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intoxications alimentaires: bactéries productrices de tox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8077320" y="3886200"/>
            <a:ext cx="930240" cy="89388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2666880" y="6019920"/>
            <a:ext cx="1008360" cy="6714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5410080" y="6019920"/>
            <a:ext cx="1136880" cy="7077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4"/>
          <a:stretch/>
        </p:blipFill>
        <p:spPr>
          <a:xfrm>
            <a:off x="8001000" y="2819520"/>
            <a:ext cx="1008000" cy="7747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5"/>
          <a:stretch/>
        </p:blipFill>
        <p:spPr>
          <a:xfrm>
            <a:off x="4191120" y="6095880"/>
            <a:ext cx="668160" cy="5907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6"/>
          <a:stretch/>
        </p:blipFill>
        <p:spPr>
          <a:xfrm>
            <a:off x="8305920" y="4952880"/>
            <a:ext cx="457200" cy="81756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7"/>
          <a:stretch/>
        </p:blipFill>
        <p:spPr>
          <a:xfrm>
            <a:off x="7924680" y="1905120"/>
            <a:ext cx="836640" cy="7110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8"/>
          <a:stretch/>
        </p:blipFill>
        <p:spPr>
          <a:xfrm>
            <a:off x="6934320" y="6019920"/>
            <a:ext cx="609480" cy="6094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147960" y="2209680"/>
            <a:ext cx="77716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. aureu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lades, patisserie, volail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. cereu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andes, légu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tridium perfrigen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ande, volail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Vibrio parahemolyticus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quill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almonell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duits laitiers, viande, oeufs, ea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higella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lades, ea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. col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ampylobacter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olaille, eau, produits laiti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Vibrio cholera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Yersini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duits laiti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tridium botulinu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erves, vian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Listeria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duits laitiers, charcute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9"/>
          <a:stretch/>
        </p:blipFill>
        <p:spPr>
          <a:xfrm>
            <a:off x="8001000" y="5943600"/>
            <a:ext cx="887400" cy="7524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10"/>
          <a:stretch/>
        </p:blipFill>
        <p:spPr>
          <a:xfrm>
            <a:off x="1143000" y="5791320"/>
            <a:ext cx="1143000" cy="97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11360" y="205920"/>
            <a:ext cx="7772400" cy="754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Infections gastro-intestinales</a:t>
            </a:r>
            <a:endParaRPr b="0" lang="en-US" sz="28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981080" y="1752480"/>
            <a:ext cx="616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demandez conseil à votre pharmacien 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685800" y="990720"/>
            <a:ext cx="1295280" cy="124776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98280" y="2819520"/>
            <a:ext cx="80535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nner les conseils d’hygiène (contamination et transmission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nner des conseils diététiques (aliments à conseiller et à évit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ister sur l’importance de l’hydratation (diarrhé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érifier l’adéquation du choix thérapeutique pour le patient considér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herche de facteurs de risque (médicaments !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11360" y="205920"/>
            <a:ext cx="7772400" cy="75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Infections gastro-intestinales</a:t>
            </a:r>
            <a:endParaRPr b="0" lang="en-US" sz="28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5105520"/>
            <a:ext cx="75596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valence patterns of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Helicobacter pylori.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valence of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H. pylor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nfection in 10 developing countries (Group 1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10 developed countries (Group 2)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apted with permission from Pounder and Ng, 1995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-38160" y="1066680"/>
            <a:ext cx="9220320" cy="396576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4916160" y="6435720"/>
            <a:ext cx="416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Infectious Diseases - </a:t>
            </a:r>
            <a:r>
              <a:rPr b="0" i="1" sz="1200" spc="-1" strike="noStrike">
                <a:solidFill>
                  <a:srgbClr val="000000"/>
                </a:solidFill>
                <a:latin typeface="Arial"/>
              </a:rPr>
              <a:t>D. Armstrong &amp; J. Cohen, Eds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. 1999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11360" y="205920"/>
            <a:ext cx="7772400" cy="75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Infections gastro-intestinales</a:t>
            </a:r>
            <a:endParaRPr b="0" lang="en-US" sz="28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3480" y="1096920"/>
            <a:ext cx="4758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1. Gastrite à </a:t>
            </a:r>
            <a:r>
              <a:rPr b="1" i="1" lang="en-US" sz="2400" spc="-1" strike="noStrike">
                <a:solidFill>
                  <a:srgbClr val="ff3300"/>
                </a:solidFill>
                <a:latin typeface="Arial"/>
              </a:rPr>
              <a:t>Helicobacter pylo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339840" y="1676520"/>
            <a:ext cx="2684520" cy="27828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3205080" y="1676520"/>
            <a:ext cx="2773440" cy="281916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6118200" y="1676520"/>
            <a:ext cx="2784600" cy="281916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228600" y="4622760"/>
            <a:ext cx="84740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doscopic pictures of the stomach and duodenu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a) Erythema of the gastric antrum. This appearance correlates poorly with histologic gastritis and may be a normal finding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b) Duodenal ulceration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c) Gastric ulcer. Note the clot in the base indicating recent bleeding and high risk of rebleed and the endoscope entering the stomach through the cardi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916160" y="6435720"/>
            <a:ext cx="416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Infectious Diseases - </a:t>
            </a:r>
            <a:r>
              <a:rPr b="0" i="1" sz="1200" spc="-1" strike="noStrike">
                <a:solidFill>
                  <a:srgbClr val="000000"/>
                </a:solidFill>
                <a:latin typeface="Arial"/>
              </a:rPr>
              <a:t>D. Armstrong &amp; J. Cohen, Eds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. 1999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11360" y="205920"/>
            <a:ext cx="7772400" cy="754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Infections gastro-intestinales</a:t>
            </a:r>
            <a:endParaRPr b="0" lang="en-US" sz="28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01920" y="1023840"/>
            <a:ext cx="720180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1. Gastrite à </a:t>
            </a:r>
            <a:r>
              <a:rPr b="1" i="1" lang="en-US" sz="2400" spc="-1" strike="noStrike">
                <a:solidFill>
                  <a:srgbClr val="ff3300"/>
                </a:solidFill>
                <a:latin typeface="Arial"/>
              </a:rPr>
              <a:t>Helicobacter pylo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causes de l’ulcère </a:t>
            </a:r>
            <a:r>
              <a:rPr b="0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duodénal</a:t>
            </a:r>
            <a:r>
              <a:rPr b="0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gastrique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ection à H. p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0%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0-70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édicaments (AINS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-10%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5-30 %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traitem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anti-acide (anti-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 inhibiteur de la pompe à proton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 antibiotiques: macrolide (clarithromycin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étronidazole ou amoxycilline ou tétracyc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09480" y="1646280"/>
            <a:ext cx="6400800" cy="1401840"/>
          </a:xfrm>
          <a:prstGeom prst="rect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11360" y="68400"/>
            <a:ext cx="7772400" cy="75384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Infections gastro-intestinales</a:t>
            </a:r>
            <a:endParaRPr b="0" lang="en-US" sz="28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96840" y="1060560"/>
            <a:ext cx="7258320" cy="69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2. Gastro-entéri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facteurs favorisa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ygiène personnel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isse de l’acidité gastrique (barrière aux infection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bilité intestinale (module la résorption d’eau et de sel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ture de la flore commens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risque majeu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déshydratation, surtout chez le béb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z la personne âgé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11360" y="68400"/>
            <a:ext cx="7772400" cy="75384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Infections gastro-intestinales</a:t>
            </a:r>
            <a:endParaRPr b="0" lang="en-US" sz="28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01520" y="871560"/>
            <a:ext cx="9042480" cy="52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2. Gastro-entéri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diarrhées inflammatoir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selles glairo-sanguinola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agent invasif (localisation intracellulaire) ou cytotoxi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entraînant des modifications du cytosquelette et la production de cytokin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gents invasif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almonella, Shigella, Yersinia, Campylobac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ytomégalovir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ntamoeba histolyt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gents cytotoxique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. coli, Clostri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11360" y="68400"/>
            <a:ext cx="7772400" cy="75384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Infections gastro-intestinales</a:t>
            </a:r>
            <a:endParaRPr b="0" lang="en-US" sz="28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200" y="871560"/>
            <a:ext cx="8899200" cy="43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2.  Gastro-entéri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diarrhées hydriq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selles liquides et abonda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bactéries produisant des endotoxin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activation de l’adénylate cyclase, activation d’enzymes, activité secrétoire)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virus, parasi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Vibrio cholera, E. coli, Clostridum perfringens, S. aureus, B. cere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tavirus, adenovir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Giardia Lamblia, Cryptospori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11360" y="205920"/>
            <a:ext cx="7772400" cy="754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Infections gastro-intestinales</a:t>
            </a:r>
            <a:endParaRPr b="0" lang="en-US" sz="28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1520" y="1023840"/>
            <a:ext cx="8813880" cy="34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2. Gastro-entéri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colite pseudo-membraneuse à </a:t>
            </a:r>
            <a:r>
              <a:rPr b="0" i="1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Clostridium diffic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ctérie anaérobie, colonisant les patients ayant reçu un antibiotique à large spect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duction de toxines désorganisant l’act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dommangeant les neur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228600" y="3962520"/>
            <a:ext cx="2409840" cy="25272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2743200" y="4952880"/>
            <a:ext cx="5943600" cy="91764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4572000" y="6400800"/>
            <a:ext cx="441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Principles and practice of infectious diseases - Mandell - 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11360" y="68400"/>
            <a:ext cx="7772400" cy="75384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Infections gastro-intestinales</a:t>
            </a:r>
            <a:endParaRPr b="0" lang="en-US" sz="28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13560" y="871560"/>
            <a:ext cx="8447040" cy="589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2. Gastro-entéri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agents responsables   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        traitement de choix  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 alterna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lostridium difficile          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étronidazo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ncomyc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réhydra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tibiotique si inva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uche toxigèn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. coli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trimoxazole / FQ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almonella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Q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cephalo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trimoxazol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higella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Q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éphalo, ampi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trimoxazo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ampylobacter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Q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L, dox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Yersinia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Q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trimoxazole, A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Vibrio cholerae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Q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cotrimoxazo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x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tavirus/adenovirus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réhydra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28600" y="1351080"/>
            <a:ext cx="8712360" cy="5418000"/>
          </a:xfrm>
          <a:prstGeom prst="rect">
            <a:avLst/>
          </a:prstGeom>
          <a:noFill/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651640" y="2946240"/>
            <a:ext cx="75960" cy="609840"/>
          </a:xfrm>
          <a:custGeom>
            <a:avLst/>
            <a:gdLst>
              <a:gd name="textAreaLeft" fmla="*/ 22320 w 75960"/>
              <a:gd name="textAreaRight" fmla="*/ 76320 w 75960"/>
              <a:gd name="textAreaTop" fmla="*/ 25200 h 609840"/>
              <a:gd name="textAreaBottom" fmla="*/ 584640 h 609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28600" y="1981080"/>
            <a:ext cx="8686800" cy="0"/>
          </a:xfrm>
          <a:prstGeom prst="line">
            <a:avLst/>
          </a:prstGeom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3276720" y="1383840"/>
            <a:ext cx="0" cy="5410440"/>
          </a:xfrm>
          <a:prstGeom prst="line">
            <a:avLst/>
          </a:prstGeom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477120" y="3657600"/>
            <a:ext cx="0" cy="2666880"/>
          </a:xfrm>
          <a:prstGeom prst="line">
            <a:avLst/>
          </a:prstGeom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477120" y="1371600"/>
            <a:ext cx="0" cy="1143000"/>
          </a:xfrm>
          <a:prstGeom prst="line">
            <a:avLst/>
          </a:prstGeom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886200" y="2590920"/>
            <a:ext cx="4038480" cy="1066680"/>
          </a:xfrm>
          <a:prstGeom prst="rect">
            <a:avLst/>
          </a:prstGeom>
          <a:noFill/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04T16:15:39Z</dcterms:created>
  <dc:creator>F. Van Bambeke</dc:creator>
  <dc:description/>
  <dc:language>en-US</dc:language>
  <cp:lastModifiedBy>Paul M. Tulkens</cp:lastModifiedBy>
  <cp:lastPrinted>2003-02-14T09:08:44Z</cp:lastPrinted>
  <dcterms:modified xsi:type="dcterms:W3CDTF">2003-04-27T12:13:26Z</dcterms:modified>
  <cp:revision>17</cp:revision>
  <dc:subject/>
  <dc:title>Infections gastro-intestinal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isap.org/slides.htm</vt:lpwstr>
  </property>
  <property fmtid="{D5CDD505-2E9C-101B-9397-08002B2CF9AE}" pid="9" name="LinkColor">
    <vt:r8>16711782</vt:r8>
  </property>
  <property fmtid="{D5CDD505-2E9C-101B-9397-08002B2CF9AE}" pid="10" name="MailAddress">
    <vt:lpwstr>webmaster@isap.org</vt:lpwstr>
  </property>
  <property fmtid="{D5CDD505-2E9C-101B-9397-08002B2CF9AE}" pid="11" name="NavBtnPos">
    <vt:r8>4</vt:r8>
  </property>
  <property fmtid="{D5CDD505-2E9C-101B-9397-08002B2CF9AE}" pid="12" name="Other">
    <vt:lpwstr>These slides are for information only.
Do not make public use of them without the  autorization of their author and of ISAP.  
Send your requests to &lt;webmaster@isap.org&gt;</vt:lpwstr>
  </property>
  <property fmtid="{D5CDD505-2E9C-101B-9397-08002B2CF9AE}" pid="13" name="OutputDir">
    <vt:lpwstr>C:\Internet\isap\2002\Workshop-San-Diego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